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A19-9122-49A9-A322-5B7C3B2B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134-6C21-491D-94F7-D8BC46FA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1D2-FFAA-427D-8273-50AD36B3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AEA-0B7A-4854-8463-99288617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622B-BF18-4152-9515-26CAFB0F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1F67-C904-4608-9EB0-1AC7153A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8E1E-7BE9-497D-980E-448EBA61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788F-9215-461A-A5AF-E316A646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CA4B-8F8E-432A-A9F6-24BE161E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8127-C500-46CC-88CF-6869C0F5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1F56-9A91-422A-942A-6429A721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4DF-EA9C-452F-91C3-E01EF3A0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022F-6D59-4DBE-ACFE-EADCC2B5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C68D-114F-4358-BC65-33B08BD8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4CE9-C670-4A13-8D3C-F6205C75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25AD-F0A1-4E8D-8E07-302ECD4F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0D37-CFEB-44EF-90EB-96616105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68D-4D27-49A3-BD54-7D547627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9FD-4915-45F2-AFF3-5C0FA8EC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4BA-DD1F-48C5-8890-5095E62F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2DB-D823-42C5-92C2-ED184E38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FB7-8580-495F-BC8B-DFCB71CE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EB71-D44B-4920-980F-1911E854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F7B5-B088-494B-B907-E9F299F1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custGeom>
              <a:avLst/>
              <a:gdLst/>
              <a:ahLst/>
              <a:rect l="l" t="t" r="r" b="b"/>
              <a:pathLst>
                <a:path w="1536" h="144">
                  <a:moveTo>
                    <a:pt x="0" y="96"/>
                  </a:moveTo>
                  <a:lnTo>
                    <a:pt x="144" y="0"/>
                  </a:lnTo>
                  <a:lnTo>
                    <a:pt x="1536" y="0"/>
                  </a:lnTo>
                  <a:lnTo>
                    <a:pt x="1536" y="144"/>
                  </a:lnTo>
                  <a:lnTo>
                    <a:pt x="0" y="14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" name="Object 85"/>
          <p:cNvGraphicFramePr/>
          <p:nvPr/>
        </p:nvGraphicFramePr>
        <p:xfrm>
          <a:off x="0" y="22860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2D27-CE6B-4E36-B870-D32F8A95B4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57"/>
          <p:cNvGrpSpPr/>
          <p:nvPr/>
        </p:nvGrpSpPr>
        <p:grpSpPr>
          <a:xfrm>
            <a:off x="0" y="6245280"/>
            <a:ext cx="9144000" cy="612720"/>
            <a:chOff x="0" y="6245280"/>
            <a:chExt cx="9144000" cy="612720"/>
          </a:xfrm>
        </p:grpSpPr>
        <p:sp>
          <p:nvSpPr>
            <p:cNvPr id="47" name="Rectangle 55"/>
            <p:cNvSpPr/>
            <p:nvPr/>
          </p:nvSpPr>
          <p:spPr>
            <a:xfrm>
              <a:off x="0" y="6451560"/>
              <a:ext cx="9144000" cy="40644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6"/>
            <p:cNvSpPr/>
            <p:nvPr/>
          </p:nvSpPr>
          <p:spPr>
            <a:xfrm>
              <a:off x="7024680" y="6245280"/>
              <a:ext cx="2119320" cy="307800"/>
            </a:xfrm>
            <a:custGeom>
              <a:avLst/>
              <a:gdLst/>
              <a:ahLst/>
              <a:rect l="l" t="t" r="r" b="b"/>
              <a:pathLst>
                <a:path w="1335" h="194">
                  <a:moveTo>
                    <a:pt x="0" y="137"/>
                  </a:moveTo>
                  <a:lnTo>
                    <a:pt x="229" y="0"/>
                  </a:lnTo>
                  <a:lnTo>
                    <a:pt x="1335" y="2"/>
                  </a:lnTo>
                  <a:lnTo>
                    <a:pt x="1335" y="194"/>
                  </a:lnTo>
                  <a:lnTo>
                    <a:pt x="87" y="19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4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987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3"/>
          <p:cNvSpPr/>
          <p:nvPr/>
        </p:nvSpPr>
        <p:spPr>
          <a:xfrm>
            <a:off x="1676520" y="1905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9FA4-56FF-4D63-8EC2-5DB0D0116D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c769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0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3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3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78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571500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4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5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6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7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8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0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1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99" name="Oval 42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3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4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5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6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47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8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9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0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1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2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3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4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5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6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57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8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1d1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9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2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5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48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1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4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57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1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8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6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0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5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06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09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0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3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16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2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27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28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1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39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4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5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48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1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57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2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3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66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69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5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AutoShape 88"/>
          <p:cNvCxnSpPr>
            <a:stCxn id="487" idx="3"/>
            <a:endCxn id="488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AutoShape 89"/>
          <p:cNvCxnSpPr>
            <a:stCxn id="488" idx="3"/>
            <a:endCxn id="489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AutoShape 90"/>
          <p:cNvCxnSpPr>
            <a:stCxn id="489" idx="3"/>
            <a:endCxn id="490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496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08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0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16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2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909720" y="2030400"/>
          <a:ext cx="7396200" cy="345276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8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62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9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76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83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6781680" y="6477120"/>
            <a:ext cx="21114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355920" y="1871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355920" y="27860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355920" y="3678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355920" y="4592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3"/>
          <p:cNvSpPr txBox="1"/>
          <p:nvPr/>
        </p:nvSpPr>
        <p:spPr>
          <a:xfrm>
            <a:off x="2057400" y="49528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1f6f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1f6f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2133720" y="5715000"/>
            <a:ext cx="5105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8880" y="1601280"/>
            <a:ext cx="747072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36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37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55818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781680" y="6477120"/>
            <a:ext cx="2111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30120" y="1393920"/>
            <a:ext cx="8294760" cy="5187960"/>
            <a:chOff x="330120" y="1393920"/>
            <a:chExt cx="8294760" cy="5187960"/>
          </a:xfrm>
        </p:grpSpPr>
        <p:sp>
          <p:nvSpPr>
            <p:cNvPr id="148" name="Freeform 4"/>
            <p:cNvSpPr/>
            <p:nvPr/>
          </p:nvSpPr>
          <p:spPr>
            <a:xfrm rot="20241600">
              <a:off x="10425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5"/>
            <p:cNvSpPr/>
            <p:nvPr/>
          </p:nvSpPr>
          <p:spPr>
            <a:xfrm rot="20056200">
              <a:off x="44697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"/>
            <p:cNvSpPr/>
            <p:nvPr/>
          </p:nvSpPr>
          <p:spPr>
            <a:xfrm rot="20056200">
              <a:off x="74019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 rot="20056200">
              <a:off x="28306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 rot="20056200">
              <a:off x="56775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9"/>
            <p:cNvSpPr/>
            <p:nvPr/>
          </p:nvSpPr>
          <p:spPr>
            <a:xfrm rot="20056200">
              <a:off x="18820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37926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"/>
            <p:cNvSpPr/>
            <p:nvPr/>
          </p:nvSpPr>
          <p:spPr>
            <a:xfrm>
              <a:off x="12621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2"/>
            <p:cNvSpPr/>
            <p:nvPr/>
          </p:nvSpPr>
          <p:spPr>
            <a:xfrm>
              <a:off x="21502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>
              <a:off x="49446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4"/>
            <p:cNvSpPr/>
            <p:nvPr/>
          </p:nvSpPr>
          <p:spPr>
            <a:xfrm>
              <a:off x="67842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15267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1338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70884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52858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24447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3487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24127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AutoShape 22"/>
            <p:cNvCxnSpPr/>
            <p:nvPr/>
          </p:nvCxnSpPr>
          <p:spPr>
            <a:xfrm flipH="1">
              <a:off x="4708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" name="Text Box 23"/>
            <p:cNvSpPr/>
            <p:nvPr/>
          </p:nvSpPr>
          <p:spPr>
            <a:xfrm>
              <a:off x="3301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0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0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1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6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9692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cfdfe"/>
              </a:gs>
              <a:gs pos="100000">
                <a:srgbClr val="99bc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858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858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858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2:27Z</dcterms:created>
  <dc:creator>Admin</dc:creator>
  <dc:description/>
  <dc:language>en-US</dc:language>
  <cp:lastModifiedBy>Anh Hung Pro</cp:lastModifiedBy>
  <dcterms:modified xsi:type="dcterms:W3CDTF">2016-09-06T16:38:18Z</dcterms:modified>
  <cp:revision>2</cp:revision>
  <dc:subject/>
  <dc:title>PowerPoint Template</dc:title>
</cp:coreProperties>
</file>